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6.png" ContentType="image/png"/>
  <Override PartName="/ppt/media/image11.png" ContentType="image/png"/>
  <Override PartName="/ppt/media/image31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gif" ContentType="image/gif"/>
  <Override PartName="/ppt/media/image18.wmf" ContentType="image/x-wmf"/>
  <Override PartName="/ppt/media/image17.png" ContentType="image/png"/>
  <Override PartName="/ppt/media/image20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BEE-90CC-4E71-BB06-4B5A5BEE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095-3005-4C3B-9CB7-FF764168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753-055F-4703-9127-B077C254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9BE-7F89-45E7-8188-E3FEA0AD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4E1-F169-4A7D-BA34-B1AE5039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9E8-DECE-4D36-9CDA-933B1C44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0C5-8635-41CE-82AC-64E7E3F7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DDD-865A-4EC6-843D-28318CA0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C6C-EB57-4C76-9590-DD621CE8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67F-69CE-4C8C-A48C-095E1566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9EB-0CCC-4B6F-BDE5-753CA2B6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F3E-4EEF-4DA2-A64E-BDF3CC4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5A7B-EC68-4D7A-B5BF-E4D2047E70F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3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4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95360" y="153036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圆锥的体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 圆柱和圆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2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3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56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57" name="椭圆 40" descr=""/>
            <p:cNvPicPr/>
            <p:nvPr/>
          </p:nvPicPr>
          <p:blipFill>
            <a:blip r:embed="rId8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0" name="椭圆 41" descr=""/>
            <p:cNvPicPr/>
            <p:nvPr/>
          </p:nvPicPr>
          <p:blipFill>
            <a:blip r:embed="rId9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3" name="椭圆 42" descr=""/>
            <p:cNvPicPr/>
            <p:nvPr/>
          </p:nvPicPr>
          <p:blipFill>
            <a:blip r:embed="rId10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66" name="椭圆 43" descr=""/>
            <p:cNvPicPr/>
            <p:nvPr/>
          </p:nvPicPr>
          <p:blipFill>
            <a:blip r:embed="rId11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69" name="椭圆 44" descr=""/>
            <p:cNvPicPr/>
            <p:nvPr/>
          </p:nvPicPr>
          <p:blipFill>
            <a:blip r:embed="rId12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2" name="椭圆 45" descr=""/>
            <p:cNvPicPr/>
            <p:nvPr/>
          </p:nvPicPr>
          <p:blipFill>
            <a:blip r:embed="rId13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Calibri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7"/>
          <p:cNvGrpSpPr/>
          <p:nvPr/>
        </p:nvGrpSpPr>
        <p:grpSpPr>
          <a:xfrm>
            <a:off x="512640" y="1373040"/>
            <a:ext cx="2810160" cy="668520"/>
            <a:chOff x="512640" y="1373040"/>
            <a:chExt cx="2810160" cy="668520"/>
          </a:xfrm>
        </p:grpSpPr>
        <p:sp>
          <p:nvSpPr>
            <p:cNvPr id="138" name="圆角矩形 5"/>
            <p:cNvSpPr/>
            <p:nvPr/>
          </p:nvSpPr>
          <p:spPr>
            <a:xfrm>
              <a:off x="1396800" y="1485720"/>
              <a:ext cx="19260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ff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3"/>
            <p:cNvSpPr/>
            <p:nvPr/>
          </p:nvSpPr>
          <p:spPr>
            <a:xfrm>
              <a:off x="1397160" y="14731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3730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8"/>
          <p:cNvSpPr/>
          <p:nvPr/>
        </p:nvSpPr>
        <p:spPr>
          <a:xfrm>
            <a:off x="955800" y="2286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  <a:tab algn="l" pos="5067360"/>
                <a:tab algn="l" pos="5308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，四边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直角梯形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位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线为轴，将梯形绕这个轴转一圈，将得到一个立体图形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的体积是多少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7451640" y="3395520"/>
            <a:ext cx="1143000" cy="14637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9"/>
          <p:cNvSpPr/>
          <p:nvPr/>
        </p:nvSpPr>
        <p:spPr>
          <a:xfrm>
            <a:off x="1366920" y="3705120"/>
            <a:ext cx="60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    ×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    ×(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)×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7.82(   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它的体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7.82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对象 1"/>
          <p:cNvGraphicFramePr/>
          <p:nvPr/>
        </p:nvGraphicFramePr>
        <p:xfrm>
          <a:off x="5364000" y="3679920"/>
          <a:ext cx="20340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679920"/>
                    <a:ext cx="2034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对象 2"/>
          <p:cNvGraphicFramePr/>
          <p:nvPr/>
        </p:nvGraphicFramePr>
        <p:xfrm>
          <a:off x="2322360" y="3830760"/>
          <a:ext cx="25416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对象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2360" y="3830760"/>
                    <a:ext cx="2541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3"/>
          <p:cNvGraphicFramePr/>
          <p:nvPr/>
        </p:nvGraphicFramePr>
        <p:xfrm>
          <a:off x="3936960" y="3817800"/>
          <a:ext cx="25416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对象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36960" y="3817800"/>
                    <a:ext cx="2541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4"/>
          <p:cNvGraphicFramePr/>
          <p:nvPr/>
        </p:nvGraphicFramePr>
        <p:xfrm>
          <a:off x="6647040" y="3822840"/>
          <a:ext cx="44424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对象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47040" y="3822840"/>
                    <a:ext cx="4442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6"/>
          <p:cNvGraphicFramePr/>
          <p:nvPr/>
        </p:nvGraphicFramePr>
        <p:xfrm>
          <a:off x="5351400" y="4281480"/>
          <a:ext cx="44460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对象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51400" y="4281480"/>
                    <a:ext cx="444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76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Rectangle 2"/>
          <p:cNvSpPr/>
          <p:nvPr/>
        </p:nvSpPr>
        <p:spPr>
          <a:xfrm>
            <a:off x="1233360" y="2136600"/>
            <a:ext cx="729936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锥体积公式的逆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圆柱和圆锥的体积关系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组合图形的体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圆锥纵切后增加的表面积求圆锥的体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ts val="4000"/>
              </a:lnSpc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“等积变形”的数学思想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"/>
          <p:cNvGrpSpPr/>
          <p:nvPr/>
        </p:nvGrpSpPr>
        <p:grpSpPr>
          <a:xfrm>
            <a:off x="512640" y="1373040"/>
            <a:ext cx="2810160" cy="668520"/>
            <a:chOff x="512640" y="1373040"/>
            <a:chExt cx="2810160" cy="668520"/>
          </a:xfrm>
        </p:grpSpPr>
        <p:sp>
          <p:nvSpPr>
            <p:cNvPr id="81" name="圆角矩形 12"/>
            <p:cNvSpPr/>
            <p:nvPr/>
          </p:nvSpPr>
          <p:spPr>
            <a:xfrm>
              <a:off x="1396800" y="1485720"/>
              <a:ext cx="19260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ff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文本框 13"/>
            <p:cNvSpPr/>
            <p:nvPr/>
          </p:nvSpPr>
          <p:spPr>
            <a:xfrm>
              <a:off x="1397160" y="14731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3730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8"/>
          <p:cNvSpPr/>
          <p:nvPr/>
        </p:nvSpPr>
        <p:spPr>
          <a:xfrm>
            <a:off x="955800" y="228600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  <a:tab algn="l" pos="5067360"/>
                <a:tab algn="l" pos="5308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个圆锥形容器，它的容积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84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底面直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d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个圆锥形容器的高是多少分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对象 1"/>
          <p:cNvGraphicFramePr/>
          <p:nvPr/>
        </p:nvGraphicFramePr>
        <p:xfrm>
          <a:off x="5364000" y="2408400"/>
          <a:ext cx="482760" cy="30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0" y="2408400"/>
                    <a:ext cx="4827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Box 10"/>
          <p:cNvSpPr/>
          <p:nvPr/>
        </p:nvSpPr>
        <p:spPr>
          <a:xfrm>
            <a:off x="1476360" y="3622680"/>
            <a:ext cx="65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÷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(d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.84×3÷(3.14×    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(d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这个圆锥形容器的高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 d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对象 2"/>
          <p:cNvGraphicFramePr/>
          <p:nvPr/>
        </p:nvGraphicFramePr>
        <p:xfrm>
          <a:off x="5094360" y="4202280"/>
          <a:ext cx="228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94360" y="4202280"/>
                    <a:ext cx="2286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955800" y="228600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有一根底面直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圆柱形钢材，要把它削成与它等底等高的圆锥形零件。要削去多少立方厘米的钢材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6873840" y="3429000"/>
            <a:ext cx="1455840" cy="63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316160" y="406080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            ×15×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82.6(   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要削去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82.6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钢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对象 1"/>
          <p:cNvGraphicFramePr/>
          <p:nvPr/>
        </p:nvGraphicFramePr>
        <p:xfrm>
          <a:off x="3289320" y="4111560"/>
          <a:ext cx="81288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9320" y="4111560"/>
                    <a:ext cx="812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对象 2"/>
          <p:cNvGraphicFramePr/>
          <p:nvPr/>
        </p:nvGraphicFramePr>
        <p:xfrm>
          <a:off x="6091200" y="4170240"/>
          <a:ext cx="44460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1200" y="4170240"/>
                    <a:ext cx="444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对象 3"/>
          <p:cNvGraphicFramePr/>
          <p:nvPr/>
        </p:nvGraphicFramePr>
        <p:xfrm>
          <a:off x="4788000" y="4632480"/>
          <a:ext cx="44424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对象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88000" y="4632480"/>
                    <a:ext cx="4442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对象 4"/>
          <p:cNvGraphicFramePr/>
          <p:nvPr/>
        </p:nvGraphicFramePr>
        <p:xfrm>
          <a:off x="4859280" y="4005360"/>
          <a:ext cx="203400" cy="60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对象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59280" y="400536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4"/>
          <p:cNvSpPr/>
          <p:nvPr/>
        </p:nvSpPr>
        <p:spPr>
          <a:xfrm>
            <a:off x="971640" y="1533600"/>
            <a:ext cx="67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如图，把一个圆锥形容器装满水，然后倒入一个空圆柱形容器里，这时圆柱形容器里水高多少厘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043680" y="2492280"/>
            <a:ext cx="2627280" cy="1427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316160" y="406080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×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(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这时圆柱形容器里水高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 c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对象 1"/>
          <p:cNvGraphicFramePr/>
          <p:nvPr/>
        </p:nvGraphicFramePr>
        <p:xfrm>
          <a:off x="4268880" y="4040280"/>
          <a:ext cx="2030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4040280"/>
                    <a:ext cx="2030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955800" y="228600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求下面组合图形的体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568840" y="2492280"/>
            <a:ext cx="2659320" cy="12556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1316160" y="4060800"/>
            <a:ext cx="655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           ×(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÷3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10.86(   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对象 1"/>
          <p:cNvGraphicFramePr/>
          <p:nvPr/>
        </p:nvGraphicFramePr>
        <p:xfrm>
          <a:off x="3084480" y="4098960"/>
          <a:ext cx="81288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84480" y="4098960"/>
                    <a:ext cx="812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对象 2"/>
          <p:cNvGraphicFramePr/>
          <p:nvPr/>
        </p:nvGraphicFramePr>
        <p:xfrm>
          <a:off x="6213600" y="4191120"/>
          <a:ext cx="44424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13600" y="4191120"/>
                    <a:ext cx="4442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971640" y="1533600"/>
            <a:ext cx="67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一个底面直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圆锥形木块，沿底面直径把它分成两个形状、大小完全相同的木块后，表面积比原来增加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0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这个圆锥形木块的体积是多少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对象 1"/>
          <p:cNvGraphicFramePr/>
          <p:nvPr/>
        </p:nvGraphicFramePr>
        <p:xfrm>
          <a:off x="2556000" y="2565360"/>
          <a:ext cx="44424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565360"/>
                    <a:ext cx="4442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Box 6"/>
          <p:cNvSpPr/>
          <p:nvPr/>
        </p:nvSpPr>
        <p:spPr>
          <a:xfrm>
            <a:off x="1093680" y="3351240"/>
            <a:ext cx="65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0÷2×2÷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(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×             ×10×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76.8(      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这个圆锥形木块的体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76.8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对象 2"/>
          <p:cNvGraphicFramePr/>
          <p:nvPr/>
        </p:nvGraphicFramePr>
        <p:xfrm>
          <a:off x="3125880" y="3898800"/>
          <a:ext cx="9270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3898800"/>
                    <a:ext cx="9270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对象 3"/>
          <p:cNvGraphicFramePr/>
          <p:nvPr/>
        </p:nvGraphicFramePr>
        <p:xfrm>
          <a:off x="4827600" y="3749760"/>
          <a:ext cx="20304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对象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27600" y="3749760"/>
                    <a:ext cx="2030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对象 5"/>
          <p:cNvGraphicFramePr/>
          <p:nvPr/>
        </p:nvGraphicFramePr>
        <p:xfrm>
          <a:off x="5948280" y="3908520"/>
          <a:ext cx="44460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对象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8280" y="3908520"/>
                    <a:ext cx="4446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7"/>
          <p:cNvGraphicFramePr/>
          <p:nvPr/>
        </p:nvGraphicFramePr>
        <p:xfrm>
          <a:off x="6024600" y="4375080"/>
          <a:ext cx="44460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对象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24600" y="4375080"/>
                    <a:ext cx="444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/>
          <p:cNvSpPr/>
          <p:nvPr/>
        </p:nvSpPr>
        <p:spPr>
          <a:xfrm>
            <a:off x="1216080" y="357192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9×3÷18.8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5(d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这个圆锥的高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5d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971640" y="1533600"/>
            <a:ext cx="67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5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把一个底面积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4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 d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圆柱形铁块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铸成一个底面积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.84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圆锥，这个圆锥的高是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多少分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对象 1"/>
          <p:cNvGraphicFramePr/>
          <p:nvPr/>
        </p:nvGraphicFramePr>
        <p:xfrm>
          <a:off x="3843360" y="1655640"/>
          <a:ext cx="482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655640"/>
                    <a:ext cx="482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对象 2"/>
          <p:cNvGraphicFramePr/>
          <p:nvPr/>
        </p:nvGraphicFramePr>
        <p:xfrm>
          <a:off x="4255920" y="2103480"/>
          <a:ext cx="4827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5920" y="2103480"/>
                    <a:ext cx="4827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4"/>
          <p:cNvSpPr/>
          <p:nvPr/>
        </p:nvSpPr>
        <p:spPr>
          <a:xfrm>
            <a:off x="971640" y="1533600"/>
            <a:ext cx="67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有一个圆锥形沙滩，底面周长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4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，高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。如果将这些沙铺在一个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的长方体沙坑里，能铺多少厘米厚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得数保留整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454040" y="3100320"/>
            <a:ext cx="605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.42÷3.14÷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5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.14×      ×1.5×    )÷(6×3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19625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.625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≈2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：能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厘米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对象 1"/>
          <p:cNvGraphicFramePr/>
          <p:nvPr/>
        </p:nvGraphicFramePr>
        <p:xfrm>
          <a:off x="3936960" y="3521160"/>
          <a:ext cx="20340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6960" y="3521160"/>
                    <a:ext cx="2034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对象 2"/>
          <p:cNvGraphicFramePr/>
          <p:nvPr/>
        </p:nvGraphicFramePr>
        <p:xfrm>
          <a:off x="2700360" y="3670200"/>
          <a:ext cx="43164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670200"/>
                    <a:ext cx="43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Administrator</cp:lastModifiedBy>
  <dcterms:modified xsi:type="dcterms:W3CDTF">2018-01-12T10:29:07Z</dcterms:modified>
  <cp:revision>1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